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25CB-BD29-4DE9-8E89-078E58AA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2DCA-16EE-4969-8007-3E60C287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3DE9-108C-4E2B-849D-36CA7D04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313E-FC28-477C-87C4-E2682FFA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DA29-DCEC-4BBC-88CB-6070C76C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3489-AA82-4675-8944-FF7F3457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5A93-C79A-43E3-ADF9-9244DA41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92F4-3EAF-447E-82F0-1688375F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4CE3-9DCA-469E-9BD7-754BADCA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C422-FA7A-4A8F-B217-8624E819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0DE2-BA92-4B66-94F5-362E28D0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0FEA-9897-4796-8755-CCEF864D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9ACD-EB3E-44C5-9B9F-AC16D93F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B7C3-ADB9-487A-80A0-5E2A546D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D4F8-7898-4357-8A8C-F16AC7D8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B99E-730D-49E6-9FB4-EA638C741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3D0E-3EA3-45F1-A771-CDF33720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6D61-81ED-451C-907F-CFEF329D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12F2-7533-4568-974C-B2A48B51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B27D-CEDA-4FD0-B887-0E4B14E9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D4B5-3C55-4AD0-875B-2C45913B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4152-54AA-49D8-8695-5865723D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2F5D-1FEC-4D19-B4BF-312C225B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BB2D-349A-447B-B6C9-35F3C7E5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5406-E00F-4BCD-9C87-46FE44BEA7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2081-3041-4368-A184-07BB2C2AE7B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ras of Earth’s 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Q:  What causes changes in the Earth? How does knowing the past give us a VISION for the future?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*Easier to obtain food*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od would be suspended in 3  dimensions: filter feeding or feeding with tentacles become popul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Picture 6" descr="mid-Moving_Octopus_Vulgaris_2005-01-14"/>
          <p:cNvPicPr/>
          <p:nvPr/>
        </p:nvPicPr>
        <p:blipFill>
          <a:blip r:embed="rId1"/>
          <a:stretch/>
        </p:blipFill>
        <p:spPr>
          <a:xfrm>
            <a:off x="5181480" y="24192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7 periods of Paleozoic Er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mbrian Period (545-505)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ilobi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lam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land seas suggest warm Eart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and Formation: supercontinent Gondwana; (S hemispher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Picture 6" descr="trilobite"/>
          <p:cNvPicPr/>
          <p:nvPr/>
        </p:nvPicPr>
        <p:blipFill>
          <a:blip r:embed="rId1"/>
          <a:stretch/>
        </p:blipFill>
        <p:spPr>
          <a:xfrm>
            <a:off x="5562720" y="1752480"/>
            <a:ext cx="266688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rdovician Period (505-438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irst land plants (fern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irst vertebrates: early fish appe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ife moves into shallower water: Suggests ozone layer almost fully developed as life moves closer to la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aurussia seperates from Gondwan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7" name="Picture 6" descr="earlgeo"/>
          <p:cNvPicPr/>
          <p:nvPr/>
        </p:nvPicPr>
        <p:blipFill>
          <a:blip r:embed="rId1"/>
          <a:stretch/>
        </p:blipFill>
        <p:spPr>
          <a:xfrm>
            <a:off x="1219320" y="2089080"/>
            <a:ext cx="3809880" cy="35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lurian Period (438-408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rals Dominate World’s Ocea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arm Eart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lants move further inla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imals now moving further inland by way of water; fresh water fis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. America covered by shallow s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Picture 6" descr="coral_polyps"/>
          <p:cNvPicPr/>
          <p:nvPr/>
        </p:nvPicPr>
        <p:blipFill>
          <a:blip r:embed="rId1"/>
          <a:stretch/>
        </p:blipFill>
        <p:spPr>
          <a:xfrm>
            <a:off x="5181480" y="1978200"/>
            <a:ext cx="3810240" cy="37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*Devonian Period (408-360)*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sh dominate ocea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rst amphibian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gns of Earth beginning to cool: Water retreats forcing organisms to adapt to the new changes. More land crea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3" name="Picture 6" descr="early_amphibian"/>
          <p:cNvPicPr/>
          <p:nvPr/>
        </p:nvPicPr>
        <p:blipFill>
          <a:blip r:embed="rId1"/>
          <a:stretch/>
        </p:blipFill>
        <p:spPr>
          <a:xfrm>
            <a:off x="1506600" y="1600200"/>
            <a:ext cx="323532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ssissippian Period (360-320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mphibians dominate land lif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arth much cooler as glaciers move southward from polar reg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oler Earth forces Amphibians to adapt to changes; (less water-thicker ski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Picture 6" descr="toad"/>
          <p:cNvPicPr/>
          <p:nvPr/>
        </p:nvPicPr>
        <p:blipFill>
          <a:blip r:embed="rId1"/>
          <a:stretch/>
        </p:blipFill>
        <p:spPr>
          <a:xfrm>
            <a:off x="1219320" y="2579760"/>
            <a:ext cx="3809880" cy="25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ennsylvanian Period (320-286)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72200" y="1600200"/>
            <a:ext cx="2819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rst reptiles and inse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hallow seas over N.America almost disappear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oler Ear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9" name="Picture 6" descr="50215539"/>
          <p:cNvPicPr/>
          <p:nvPr/>
        </p:nvPicPr>
        <p:blipFill>
          <a:blip r:embed="rId1"/>
          <a:stretch/>
        </p:blipFill>
        <p:spPr>
          <a:xfrm>
            <a:off x="1219320" y="2438280"/>
            <a:ext cx="4572000" cy="27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*Permian Period (286-245)*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laciers retre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arth Warming back u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ds with largest mass extinction in fossil record (Asteroid impact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*Mesozoic Era *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GE OF DINOSAU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45-65 Million Years Ag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lit into 3 major perio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iassic period (245-208 million year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urassic Period (208-144 million year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etaceous Period (144-65 million year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iassic Perio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ks beginning of Mesozoic Er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rst dinosaurs and mammals appeared around 225 million years ag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lantic Oce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ngaea breaks u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lowering Plants app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oraptor, Plateosaurus and Teratosaur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6" name="Picture 4" descr="eoraptor-dinosaur-250x250"/>
          <p:cNvPicPr/>
          <p:nvPr/>
        </p:nvPicPr>
        <p:blipFill>
          <a:blip r:embed="rId1"/>
          <a:stretch/>
        </p:blipFill>
        <p:spPr>
          <a:xfrm>
            <a:off x="228600" y="5486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Plateosaurus"/>
          <p:cNvPicPr/>
          <p:nvPr/>
        </p:nvPicPr>
        <p:blipFill>
          <a:blip r:embed="rId2"/>
          <a:stretch/>
        </p:blipFill>
        <p:spPr>
          <a:xfrm>
            <a:off x="7010280" y="3048120"/>
            <a:ext cx="1676520" cy="16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Early_Earth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cambrian Time E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4" name="Picture 7" descr="moonearth"/>
          <p:cNvPicPr/>
          <p:nvPr/>
        </p:nvPicPr>
        <p:blipFill>
          <a:blip r:embed="rId2"/>
          <a:stretch/>
        </p:blipFill>
        <p:spPr>
          <a:xfrm>
            <a:off x="5334120" y="1600200"/>
            <a:ext cx="38098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*Why Dinosaurs Evolve*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vironmental Factors- As Pangaea break apart each land mass gets a unique clim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ease Influence- Diseases possible reason species die ou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etition for Food- organisms compete for same food sources; winners live losers di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datory Influence- animals develop defenses against Predato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Jurassic Period (208-144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lowering Plants and Dinosaurs dominate lan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irds appe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ppalachian Mountains Fo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nosaurs become more diverse from basic shap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osaur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egosaur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plodic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eratosaur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2" name="Picture 4" descr="stegosaurus"/>
          <p:cNvPicPr/>
          <p:nvPr/>
        </p:nvPicPr>
        <p:blipFill>
          <a:blip r:embed="rId1"/>
          <a:stretch/>
        </p:blipFill>
        <p:spPr>
          <a:xfrm>
            <a:off x="3809880" y="4724280"/>
            <a:ext cx="3479760" cy="185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allosaurusVsapatosaurus"/>
          <p:cNvPicPr/>
          <p:nvPr/>
        </p:nvPicPr>
        <p:blipFill>
          <a:blip r:embed="rId2"/>
          <a:stretch/>
        </p:blipFill>
        <p:spPr>
          <a:xfrm>
            <a:off x="7391520" y="396252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etaceous Period (144-65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st advanced dinosaurs: Highly specialized, most successful of all dinosaur spe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dern Earth Appea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ds in Mass Extinction of Dinosau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yrannosaurs, Tricerotops, Ankylosaurus, Protocerotype, Velocoraptors, Pterodacty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6" name="Picture 4" descr="knight_t-rex_and_trike"/>
          <p:cNvPicPr/>
          <p:nvPr/>
        </p:nvPicPr>
        <p:blipFill>
          <a:blip r:embed="rId1"/>
          <a:stretch/>
        </p:blipFill>
        <p:spPr>
          <a:xfrm>
            <a:off x="304920" y="5410080"/>
            <a:ext cx="8610480" cy="13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*Meteorite Theory?*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ays that asteroid/comet 3-5 miles wide struck near Yucatan Peninsula and caused Dinosaur Extin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ridium deposits in KT layer help support th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ever, closest Dinosaur bones ever found date about 1,000 prior to ev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mate Change/Disease reason for extinction?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KT_Asteroid.asf" descr=""/>
          <p:cNvPicPr/>
          <p:nvPr/>
        </p:nvPicPr>
        <p:blipFill>
          <a:blip r:embed="rId1"/>
          <a:stretch/>
        </p:blipFill>
        <p:spPr>
          <a:xfrm>
            <a:off x="1523880" y="743040"/>
            <a:ext cx="7239240" cy="55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*Cenozoic Era*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tinents were drifting apart—present time of Ear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frican plate collided with European plate creating the Alp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dia slammed into Asian plate creating Himalay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mate was cooled causing several “ice ages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*Mammals Survive because*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mall size easier to maintain body temperature in climate chan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bility to Hibernate during an extreme ev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thers provide food for young from milk, No other organisms do this (mammals uniqu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enozoic Era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ge of Mammals (65mya- present day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 Perio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ertiary Period (65mya – 1.6mya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arth’s climate was warm and mil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cean mammals like dolphins and whales evolv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nd-insects, flowering plants and mammals, birds domin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ga mammals mammals evol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ps and Himalayas For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Quaternary Period: (1.6 mya- today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ga mammals die out/ (Climate Change?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sent peri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umans appear—100,000 years ag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rand Canyon for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st ice age 15,000-10,000 years ag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precambrain Earth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cambrian Time E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4.6 billion years ago-545 million years ag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nformation about this time on Earth is SCAR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Rocks are buried deep within Earth’s Cru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nformation on rocks damaged or destroyed by Earth’s inner heat and pressure of other rock lay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Moon forms during this ti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precambrain Earth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cambrian Eon continued…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arth originally thought to be “dead”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Volcanoes produce toxic atmosphere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Water and water Vapor that form the oceans comes from volcanoes, asteroids and comets!!!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precambrain Earth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09480" y="1739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762120" y="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*Precambrian Eon continued….*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Closer look at rocks show Signs of cynobacteri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Cynobacteria-changed Earth’s past atmosphere of water vapor, ammonia and methane into Nitrogen and Oxygen:  STILL FOUND ALIVE TODAY in deep sea Thermal Vents and in volcano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Today’s atmosphere  made up of nitrogen , oxygen and water vapo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hanerozoic Eon (3 Eras)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*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leozoic Era:  545-245m.y.a.: Basic Traits*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The longest of all the Eras on the Earth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ontains 7 period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Fossils of large organisms first found in this er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Almost all are marine environmen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Largest land Continent called Gondwana (begins with 90 % of Earth’s surface covered by water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Warm Earth; Life limited to oceans; ozone layer not fully developed: no plants on land intiall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Ends with the largest mass extinction in Earth’s history (90% of all life killed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Picture 1030" descr="Paleozoic Earth"/>
          <p:cNvPicPr/>
          <p:nvPr/>
        </p:nvPicPr>
        <p:blipFill>
          <a:blip r:embed="rId1"/>
          <a:stretch/>
        </p:blipFill>
        <p:spPr>
          <a:xfrm>
            <a:off x="5386320" y="1600200"/>
            <a:ext cx="339876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*Why did life first start in the ocean?*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re stable environment:  Water 22x heat capacity than ai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V Protection: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NA Damaged by UV radia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NA contains all information for lif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arth’s ozone layer just starting to develop from oxygen produced by cynobacter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Picture 6" descr="ocean temp"/>
          <p:cNvPicPr/>
          <p:nvPr/>
        </p:nvPicPr>
        <p:blipFill>
          <a:blip r:embed="rId1"/>
          <a:stretch/>
        </p:blipFill>
        <p:spPr>
          <a:xfrm>
            <a:off x="4952880" y="1066680"/>
            <a:ext cx="4038840" cy="2989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gstream_sm"/>
          <p:cNvPicPr/>
          <p:nvPr/>
        </p:nvPicPr>
        <p:blipFill>
          <a:blip r:embed="rId2"/>
          <a:stretch/>
        </p:blipFill>
        <p:spPr>
          <a:xfrm>
            <a:off x="5334120" y="4191120"/>
            <a:ext cx="327636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*Why did life first start in the ocean?*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ravity’s affect neutraliz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-organisms would develop in environment in which gravity would have no impact on animal’s struct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need for powerful muscles to mov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Picture 6" descr="box-jellyfish-22916-ga"/>
          <p:cNvPicPr/>
          <p:nvPr/>
        </p:nvPicPr>
        <p:blipFill>
          <a:blip r:embed="rId1"/>
          <a:stretch/>
        </p:blipFill>
        <p:spPr>
          <a:xfrm>
            <a:off x="4876920" y="2050920"/>
            <a:ext cx="4114800" cy="394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*Why did life first start in the ocean?*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asier to obtain minerals and gases necessary for lif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ater naturally has these items dissolved in i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rganisms could just absorb materials as water passed b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8" name="Picture 6" descr="bonaire-flower-coral"/>
          <p:cNvPicPr/>
          <p:nvPr/>
        </p:nvPicPr>
        <p:blipFill>
          <a:blip r:embed="rId1"/>
          <a:stretch/>
        </p:blipFill>
        <p:spPr>
          <a:xfrm>
            <a:off x="4876920" y="2209680"/>
            <a:ext cx="3886200" cy="3741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12:21:39Z</dcterms:created>
  <dc:creator>LCS Staff</dc:creator>
  <dc:description/>
  <dc:language>en-US</dc:language>
  <cp:lastModifiedBy>LCS Staff</cp:lastModifiedBy>
  <dcterms:modified xsi:type="dcterms:W3CDTF">2013-10-17T15:03:35Z</dcterms:modified>
  <cp:revision>14</cp:revision>
  <dc:subject/>
  <dc:title>Eras of Earth’s History</dc:title>
</cp:coreProperties>
</file>